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B1FF-AFAD-4762-9F6D-EF63099E3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989C-D3F8-4712-A496-C5834F11E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8474-D87E-4305-B745-A9E40E05D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5E7C-E2F3-45C8-B4CA-C680ED1FB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B7B5F-AAC0-46DD-8681-DD24CFC80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48898-91E7-44F7-9278-A3A37F278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5D3B8-618F-4812-8FC5-85B1B38FE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CB3AF-0D84-448B-8779-3D3B593E2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1DE0A-6F25-4794-B6D8-4E3DC0DA0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49BF2-D142-4FBF-8CB5-FF24FFCAA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75760-F5C8-4AF7-BB37-03565706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9859-437A-43CD-BDA2-6B54B8B45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A6154-D32B-4820-916A-6F083EAD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F0A77-E642-4354-992C-1514B6A2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F0551-A4E2-4DF9-9009-4AEB5BE0D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E3E11-B02D-4CBB-A5C0-98D45AB39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001AF-ED64-4CEB-A71D-6599D6CB6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05F7-C7E8-4AAD-9A50-B3A2F3B34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E35B-4419-4A24-9C64-99ABF05DA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CCEE-388C-451B-9DAD-0491CDFB0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8B38-7124-4392-A8A2-05E8A7D11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1314-3CEC-4815-846F-1CCACE8E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201B-9B4E-4A03-8C69-8B01B7B5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8C7E-91DE-4DEA-A638-0DDFB85C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F51CE-7584-454D-9DBB-FCD35AC711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31390-B435-4494-8D9B-DA902BE7AA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IZVEDBENI NAČRT RRP ZASAVSKE REGIJE ZA OBDOBJE 2007-2009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7488360" cy="6476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3995640" y="4653000"/>
            <a:ext cx="8906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Državni razvojni program 2007 – 2009, referenčni okvir ter operativni programi posredovani v Bruselj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Operativni program krepitve regionalnih razvojnih programov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Direktne vzpodbude (regionalni razvojni programi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ektorske vzpodbude (ESS, ESRR, Kmetijski sklad, Kohezijski sklad - razpisi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Območna partnerstva (sektorske vzpodbud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dikativna razporeditev sredstev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Zasavska regija - 19 mio € za obdobje 2007 – 201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Na prebivalca 409 €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Predvidene dejavnost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Ekonomska in izobraževalna infrastruktura (poslovne in obrtne cone, tehnološki parki, razvojni centri regionalnega pomena, izobraževalna središča,…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Prometna infrastruktura (lokalne ceste regionalnega pomena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Okoljska infrastruktura (obvladovanje in čiščenje odpadnih voda, čistilne naprave, oskrba s pitno vodo,…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Razvojni projekti v območju s posebnimi varstvenimi režimi in v turističnih območij (priprava upravljavskih načrtov ter izvedba projektov v okviru Natura 2000, turistična infrastruktura,…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Razvoj urbanih območij (razvoj družbene in gospodarske infrastrukture, prenova starih mestnih jeder, prenova degradiranih in opuščenih urbanih področij,…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cialna infrastruktura (kultura, zdravstvo, socialnovarstvena infrastruktura,…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7272360" cy="608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7956720" y="5734080"/>
            <a:ext cx="8902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irektne vzpodbud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00"/>
                </a:solidFill>
                <a:latin typeface="Arial"/>
              </a:rPr>
              <a:t>Podjetniški inkuba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00"/>
                </a:solidFill>
                <a:latin typeface="Arial"/>
              </a:rPr>
              <a:t>Podjetno v svet podjetništv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00"/>
                </a:solidFill>
                <a:latin typeface="Arial"/>
              </a:rPr>
              <a:t>Promocija poslovnih priložnost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00"/>
                </a:solidFill>
                <a:latin typeface="Arial"/>
              </a:rPr>
              <a:t>Preučevanje vplivov na okolj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00"/>
                </a:solidFill>
                <a:latin typeface="Arial"/>
              </a:rPr>
              <a:t>Infrastruktura, ki podpira razvoj regij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Vodovod Turje-Gore-Kopitni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Modernizacija LC Marno-Turje-Kopitni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Rekonstrukcija LC Hrastnik-Radeč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Rekonstrukcija LC Čeče-Bob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Rekonstrukcija LC Jesenova rav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Rekonstrukcija LC Čeče-Kal-Bla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Rekonstrukcija LC Liza-Vrh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Poligon varne vožnj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Zasneževanje in ureditev TRC Vrh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Rekonstrukcija LC Zaloka-Jesenovo-Vrh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Rekonstrukcija LC Izlake-Čemšeni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Izgradnja parkirišč v Zagorj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Ureditev regijskega sejemsko-prireditvenega prosto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Izgradnja MC in spremljajočih dejavnost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Prenova starega mestnega jedra – Cankarjev t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826920" y="115920"/>
            <a:ext cx="7274160" cy="4255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7956720" y="5661000"/>
            <a:ext cx="8902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  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395280" y="765000"/>
          <a:ext cx="8424720" cy="518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765000"/>
                    <a:ext cx="8424720" cy="518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826920" y="189000"/>
            <a:ext cx="7490160" cy="4255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8388360" y="6021360"/>
            <a:ext cx="60336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ektorske vzpodbud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681120" y="1600200"/>
          <a:ext cx="7781760" cy="4421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1600200"/>
                    <a:ext cx="7781760" cy="44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755640" y="189000"/>
            <a:ext cx="7561440" cy="4255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8317080" y="6021360"/>
            <a:ext cx="60156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81120" y="1600200"/>
          <a:ext cx="778176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1600200"/>
                    <a:ext cx="77817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1403280" y="189000"/>
            <a:ext cx="6551640" cy="4255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4"/>
          <a:stretch/>
        </p:blipFill>
        <p:spPr>
          <a:xfrm>
            <a:off x="179280" y="260280"/>
            <a:ext cx="8906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07:14:40Z</dcterms:created>
  <dc:creator>Helena Butolen</dc:creator>
  <dc:description/>
  <dc:language>en-US</dc:language>
  <cp:lastModifiedBy>Helena Butolen</cp:lastModifiedBy>
  <dcterms:modified xsi:type="dcterms:W3CDTF">2007-03-30T09:26:16Z</dcterms:modified>
  <cp:revision>9</cp:revision>
  <dc:subject/>
  <dc:title>IZVEDBENI NAČRT RRP ZASAVSKE REGIJE ZA OBDOBJE 2007-2009</dc:title>
</cp:coreProperties>
</file>